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F3E0-C241-4091-AD7D-0E2F70A4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F94D-BFC6-4481-99B9-9ACCB076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3628-67F6-4EF5-9177-8F64726F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41E0-03A8-4323-8689-0328114F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803-8079-481B-B22F-CE1EB5C4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9A5F-14D0-4BF6-929B-B7D868AE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BC3-97C6-4ACD-BD51-3417EC81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7593-5803-4752-A454-9D6F0C05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F1B-A143-41DD-BA27-93DC6160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AB78-6D8D-44F9-ADF7-F729A518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19D-A783-458A-A2D7-D56467AA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A0AA-BD93-49BF-8431-F10F7D78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8A3B-4A08-433C-8F8E-12004A791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aramond"/>
              </a:rPr>
              <a:t>Draw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ont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Arial"/>
              </a:rPr>
              <a:t>é Cray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97160" y="1849320"/>
            <a:ext cx="634968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aramond"/>
              </a:rPr>
              <a:t>Art 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Ingres, </a:t>
            </a:r>
            <a:r>
              <a:rPr b="0" i="1" lang="en-US" sz="3600" spc="-1" strike="noStrike">
                <a:solidFill>
                  <a:srgbClr val="000000"/>
                </a:solidFill>
                <a:latin typeface="Garamond"/>
              </a:rPr>
              <a:t>Portrait of Nicolo Paganini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, 1819, Romant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505320" y="1752480"/>
            <a:ext cx="239076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Kollwitz, </a:t>
            </a:r>
            <a:r>
              <a:rPr b="0" i="1" lang="en-US" sz="3600" spc="-1" strike="noStrike">
                <a:solidFill>
                  <a:srgbClr val="000000"/>
                </a:solidFill>
                <a:latin typeface="Garamond"/>
              </a:rPr>
              <a:t>Suicide Victim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, 1928, Expression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21040" y="2293920"/>
            <a:ext cx="33004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Degas, </a:t>
            </a:r>
            <a:r>
              <a:rPr b="0" i="1" lang="en-US" sz="3600" spc="-1" strike="noStrike">
                <a:solidFill>
                  <a:srgbClr val="000000"/>
                </a:solidFill>
                <a:latin typeface="Garamond"/>
              </a:rPr>
              <a:t>Dancer adjusting her Slipper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, 1873, Impression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505320" y="1905120"/>
            <a:ext cx="25336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Noble, </a:t>
            </a:r>
            <a:r>
              <a:rPr b="0" i="1" lang="en-US" sz="3600" spc="-1" strike="noStrike">
                <a:solidFill>
                  <a:srgbClr val="000000"/>
                </a:solidFill>
                <a:latin typeface="Garamond"/>
              </a:rPr>
              <a:t>Nobspital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, 1997-98, Conceptual 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1800" y="1600200"/>
            <a:ext cx="266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Critical Thinking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Metalpoint vs. Charco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2610000" cy="3714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38102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Non-Western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2236680" cy="4200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8320" y="2303640"/>
            <a:ext cx="40384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Silverpoi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24240" y="2243160"/>
            <a:ext cx="24955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omputer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Silverpoint i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61840" y="2624040"/>
            <a:ext cx="3229200" cy="2476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452920" y="3052800"/>
            <a:ext cx="24289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Bind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3086280" cy="2100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181480" y="2666880"/>
            <a:ext cx="30607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Past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0200" y="2471760"/>
            <a:ext cx="3552840" cy="2781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35600" y="2503440"/>
            <a:ext cx="34621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Was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84440" y="1728720"/>
            <a:ext cx="3975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Pig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28920" y="2411280"/>
            <a:ext cx="291960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onceptual a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352680" cy="2658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00600" y="2400480"/>
            <a:ext cx="36194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Gestur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20720" y="1600200"/>
            <a:ext cx="351144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4120" y="2362320"/>
            <a:ext cx="270504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1T17:45:28Z</dcterms:created>
  <dc:creator>Sheila Levi-Aland</dc:creator>
  <dc:description/>
  <dc:language>en-US</dc:language>
  <cp:lastModifiedBy>Sheila</cp:lastModifiedBy>
  <dcterms:modified xsi:type="dcterms:W3CDTF">2005-05-16T21:25:38Z</dcterms:modified>
  <cp:revision>17</cp:revision>
  <dc:subject/>
  <dc:title>Drawing</dc:title>
</cp:coreProperties>
</file>